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B45-7320-475D-BFCD-B58D9D02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9778-FDE8-413F-91A2-D8915EF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9B3-0B8A-4900-9270-25F7E4D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AA2-0F3F-4001-B7DE-70EFAB17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460E-5EAA-4786-A597-389D0E95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A7B3-703D-440D-B902-82191BC4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F22C-94DC-40C1-B295-903FA4AF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AB09-B436-4880-8BD8-F9315B6D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FDD7-5577-4AF4-A88A-2E17E132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DCA1-4588-4953-9B2A-ED28ACE8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21C3-ACFB-450D-9E05-B6AA58D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996-C00B-4818-A2E8-8A813F73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82AE-4E1D-4C29-854C-F782EB9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0AF-50EC-47E6-B052-C32AD9C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9CA4-0A34-438D-8696-8E5D0FA7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F12-0E5A-4AD2-8837-D8BCB103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446B-6C91-4B28-93AB-971C16AE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415-804C-4F7E-89EE-0D4F155A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F0DA-8218-495A-904A-822C470A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7AE-C59B-45DB-B3CD-AFFC5C62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5F7-27ED-46CB-AB14-6F030440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B53-CBA2-4270-A2BB-B7E1882E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4CE-2F18-4A42-AE6B-E381ECE6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2C89-FC7B-4B89-9FEA-B725B68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2CD0-F6B3-4BAC-905F-8346B15E636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5B3C-827B-4A56-B847-C5D2924057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200" spc="-1" strike="noStrike">
                <a:solidFill>
                  <a:srgbClr val="cc3300"/>
                </a:solidFill>
                <a:latin typeface="Garamond"/>
              </a:rPr>
              <a:t>Les méthodes qualitatives dans l’histoire des sciences sociales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47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200" spc="-1" strike="noStrike">
                <a:solidFill>
                  <a:srgbClr val="cc6600"/>
                </a:solidFill>
                <a:latin typeface="Verdana"/>
              </a:rPr>
              <a:t>Chapitre I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Robert Ezra PARK </a:t>
            </a:r>
            <a:br>
              <a:rPr sz="4000"/>
            </a:b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(1864-1944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logie urba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 Ernest BURGESS (1886-1966)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èle de construction des villes (The Loop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GET THE SEAT OF YOU PANTS DIRT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  <p:set>
                                      <p:cBhvr>
                                        <p:cTn id="31" dur="3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The Hobos </a:t>
            </a:r>
            <a:br>
              <a:rPr sz="4000"/>
            </a:b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Nels Anderson (1923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Anderson, ex- Hobo lui-mê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Recherche sur les travailleurs saisonniers migrants (= Hobo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Familiarité et d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The Taxi-Dance Hall</a:t>
            </a:r>
            <a:br>
              <a:rPr sz="4000"/>
            </a:b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Paul G. Cressey (1932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Etablissements pour migrants (Boissons, danses et filles « faciles »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Objectifs de l’ouv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Méthodes : observation participante (via des enquêteur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 Jack Roller. A Delinquent Boy’s Own Story</a:t>
            </a:r>
            <a:r>
              <a:rPr b="1" lang="fr-B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(Stanley le détrousseur)</a:t>
            </a:r>
            <a:br>
              <a:rPr sz="2800"/>
            </a:br>
            <a:r>
              <a:rPr b="1" lang="fr-B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ifford R. Shaw (1930)</a:t>
            </a:r>
            <a:endParaRPr b="0" lang="en-US" sz="2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hode des « Récits de vie 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rgess : « Récits de vie = microscope 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Un acte délinquant est une part du processus dynamique de la vie de l’individu. Tant que la délinquance n’est pas considérée en relation à son contexte dans l’histoire de la vie de l’individu, elle n’est pas intelligible et ne saurait être traitée efficacement. » (C.R. Shaw, 193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The Gang </a:t>
            </a:r>
            <a:br>
              <a:rPr sz="4000"/>
            </a:b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Frederic Thrasher (1927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lange de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sement des gangs (131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tographie des gangs dans la ville de Chicago (écologie urba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tiens « extensifs 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s. Une approche « par sympathie 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 direc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Street Corner Society</a:t>
            </a:r>
            <a:br>
              <a:rPr sz="4000"/>
            </a:b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William Foote White (1943)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 End de Boston = « Cornerville 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% Italiens. + Minorité irlanda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rsion complète. (Apprend l’italien, s’installe au-dessus d’une pizzeria…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ôle des « informateurs » qui deviennent chercheur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 succès en librairie. Grand succès académique (après réédition avec postfa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çon : le chercheur doit se fondre dans le milieu qu’il observe au maximum, respecter et suivre ses norm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Apports de la première </a:t>
            </a:r>
            <a:br>
              <a:rPr sz="4000"/>
            </a:b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école de Chicago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rêt pour le terrai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che compréhensive (intérêt pour les représentations symboliqu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e méthodes qualit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thode documentai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cits de vi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ations participant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the du qualitativisme de Chicag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ai et erreur. Peu de réflexion sur la validité des méth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1935. Tournant quantitatif aux USA : Columbia et Harvard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sch 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 American Sociological Society : American Journal of Sociology + American Sociological Revie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7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lcott </a:t>
            </a:r>
            <a:r>
              <a:rPr b="1" lang="fr-BE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ARSONS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à Harvard) publie «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Social Action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. (Structuro-fonctionnalism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K.</a:t>
            </a:r>
            <a:r>
              <a:rPr b="1" lang="fr-BE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MERTON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veloppe le fonctionnalisme à Columbia + Lectures de Durkhei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Columbia également Paul </a:t>
            </a:r>
            <a:r>
              <a:rPr b="1" lang="fr-BE" sz="28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LAZARFELD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veloppe les enquêtes quantitatives (sondag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’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Soldiers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amuel </a:t>
            </a:r>
            <a:r>
              <a:rPr b="1" lang="fr-BE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STOUF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cc6600"/>
                </a:solidFill>
                <a:latin typeface="Garamond"/>
              </a:rPr>
              <a:t>Structure du chapitre</a:t>
            </a:r>
            <a:endParaRPr b="0" lang="en-US" sz="5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isme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paradigme explicatif (</a:t>
            </a:r>
            <a:r>
              <a:rPr b="0" i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te, Durkheim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risme 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Social Survey </a:t>
            </a:r>
            <a:r>
              <a:rPr b="0" i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e Play, Booth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emière école d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ag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k, Thomas, Burgess, Anderson, Thrasher, White, Cressey, Shaw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héritage d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nthropologie culturell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rd</a:t>
            </a: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éricain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oas, Malinowski, M. Mead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econde école d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ago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arner, Hughes, Blumer, Becker, Goffman, Strauss…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éveloppement des méthodes qualitatives en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rtaux, Bourdieu, Crozier, Pollak, Tourai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cc3300"/>
                </a:solidFill>
                <a:latin typeface="Garamond"/>
              </a:rPr>
              <a:t>Positivisme et paradigme explicatif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el : positivisme d’Auguste Com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kheim – </a:t>
            </a:r>
            <a:r>
              <a:rPr b="0" i="1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uicide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97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quer le social par… le so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alité linéaire (simp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égration et régulation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de suicide (Altruiste, Egoïste, Fataliste, Anomiq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cience collective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veaux d’intégration et de régulation sociale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de suic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Empirisme et Enquête Social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ptures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 18-19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volution Française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1789 : rupture sociopolitique avec la société d’ordres de l’Ancien Régi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volution industrielle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rupture socioéconomique avec le modèle de production féod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équences</a:t>
            </a:r>
            <a:r>
              <a:rPr b="0" lang="fr-BE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: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isation, urbanisation, paupérisation, nouvelles formes de solidarité, revendications politiques, délinquanc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cessité d’étudier ces nouvelles situations mais manque d’outils conceptuels et méthodologiq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Empirisme et Enquête Social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édéric Le Play</a:t>
            </a: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06-1882). Enquêtes monograph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s Ouvriers européens</a:t>
            </a: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5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Méthode sociale</a:t>
            </a: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79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des monographies en 4 p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f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les Booth</a:t>
            </a: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40-1916). Enquêtes monographiqu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fe and Labour of the People of London</a:t>
            </a:r>
            <a:r>
              <a:rPr b="0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892-190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uence indirecte sur l’école de Chicag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Constats initiaux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e d’informations (jusqu’à la nausée). Objectif politique (réformiste) et descripti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fondateurs de la sociologie et de l’anthropologie en France n’ont pas recours à des études de terrai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u de réflexions sur l’outil et la méthode. Ambiguïté entre le discours du chercheur et les jugements moraux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1ère École de Chicago </a:t>
            </a:r>
            <a:br>
              <a:rPr sz="4400"/>
            </a:br>
            <a:r>
              <a:rPr b="1" lang="fr-BE" sz="4400" spc="-1" strike="noStrike">
                <a:solidFill>
                  <a:srgbClr val="cc3300"/>
                </a:solidFill>
                <a:latin typeface="Garamond"/>
              </a:rPr>
              <a:t>(1915-1940)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ago, laboratoire exceptionn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croissance démograph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urbanis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u comme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x migratoires int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breux « problèmes sociaux 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essive 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lements (Hull Hou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cc3300"/>
                </a:solidFill>
                <a:latin typeface="Garamond"/>
              </a:rPr>
              <a:t>William Thomas (1863-1947)</a:t>
            </a:r>
            <a:endParaRPr b="0" lang="en-US" sz="4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eur avec Florian ZNANIECKI de l’ouvrage « </a:t>
            </a:r>
            <a:r>
              <a:rPr b="0" i="1" lang="fr-B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lish Peasant in Europe and America</a:t>
            </a:r>
            <a:r>
              <a:rPr b="0" lang="fr-B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» (1918-1920 ; publi: 1927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ère étude où se conjuguent sociologie académique et sociologie empirique.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cc3300"/>
                </a:solidFill>
                <a:latin typeface="Garamond"/>
              </a:rPr>
              <a:t>The Polish Peasant…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ude monographique (méthode documentaire). Démarche inductive. Théoris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x idées directr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aître le contexte d’orig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éhender le migrant polonais dans son contexte global et non comme individu isol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s : attitudes ; désorganisation sociale (familiale et communautai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22:29Z</dcterms:created>
  <dc:creator>PIROTTE</dc:creator>
  <dc:description/>
  <dc:language>en-US</dc:language>
  <cp:lastModifiedBy>Sophie</cp:lastModifiedBy>
  <dcterms:modified xsi:type="dcterms:W3CDTF">2006-10-02T08:18:06Z</dcterms:modified>
  <cp:revision>5</cp:revision>
  <dc:subject/>
  <dc:title>Les méthodes qualitatives dans l’histoire des sciences sociales</dc:title>
</cp:coreProperties>
</file>